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FC9-6FB5-4A89-9870-6A41F7D6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6BF-CC56-409B-A54C-6003DAC0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6C5-8A42-475A-9674-86C2C890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829-E295-431A-8F5D-844B2160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F2D-9A51-47DA-88DF-08E3C133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CE8-603D-4E9C-8843-AE3695CD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9CF-ACA3-47F1-AFFC-2FA0C61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AD0-B047-4CB4-A88F-C32AC3E7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E8C-25D0-497F-8520-73048AD1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A7A-940F-4B20-B135-3A19D4C9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3A7-181B-45F0-B399-D9015313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557-D6FB-4A37-904B-EA00E5A1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C01B-F8C1-49AF-9485-F8F6140C79F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85840" y="324000"/>
            <a:ext cx="864396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.  Copy and Complete the table below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2.  Write down the wave equatio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3.  Write down the relationship between frequency and period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912960" indent="-91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4.  Find both frequency and period of a wave which travels at 30 ms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and has wavelength of 3x1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m. 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SHOW ALL WORKING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28760" y="963720"/>
          <a:ext cx="8286480" cy="2251080"/>
        </p:xfrm>
        <a:graphic>
          <a:graphicData uri="http://schemas.openxmlformats.org/drawingml/2006/table">
            <a:tbl>
              <a:tblPr/>
              <a:tblGrid>
                <a:gridCol w="2071440"/>
                <a:gridCol w="2422800"/>
                <a:gridCol w="1720800"/>
                <a:gridCol w="207144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ntity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ntity Sy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Sy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ve Velo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ve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-38160" y="647640"/>
            <a:ext cx="91821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rism and rainbow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unbu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585800" y="0"/>
            <a:ext cx="60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35240" y="0"/>
            <a:ext cx="651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75248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Bone Scan"/>
          <p:cNvPicPr/>
          <p:nvPr/>
        </p:nvPicPr>
        <p:blipFill>
          <a:blip r:embed="rId1"/>
          <a:stretch/>
        </p:blipFill>
        <p:spPr>
          <a:xfrm>
            <a:off x="1873080" y="0"/>
            <a:ext cx="528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gamma ray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642960" y="642960"/>
            <a:ext cx="7929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 u="sng">
                <a:solidFill>
                  <a:srgbClr val="ffffff"/>
                </a:solidFill>
                <a:uFillTx/>
                <a:latin typeface="Calibri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NZ" sz="4000" spc="-1" strike="noStrike">
                <a:solidFill>
                  <a:srgbClr val="ffffff"/>
                </a:solidFill>
                <a:latin typeface="Calibri"/>
              </a:rPr>
              <a:t>One of the most important scientific advances of the last 150 years is the discovery and application of ________________”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gamma ray2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5530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428760" y="385920"/>
            <a:ext cx="828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ff"/>
                </a:solidFill>
                <a:uFillTx/>
                <a:latin typeface="Calibri"/>
              </a:rPr>
              <a:t>Fact One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A charged particle (either + or -) creates an </a:t>
            </a:r>
            <a:r>
              <a:rPr b="0" lang="en-NZ" sz="3600" spc="-1" strike="noStrike">
                <a:solidFill>
                  <a:srgbClr val="ffff00"/>
                </a:solidFill>
                <a:latin typeface="Calibri"/>
              </a:rPr>
              <a:t>electric field 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around it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ff"/>
                </a:solidFill>
                <a:uFillTx/>
                <a:latin typeface="Calibri"/>
              </a:rPr>
              <a:t>Fact Two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A moving charged particle (e.g. electric current) creates a </a:t>
            </a:r>
            <a:r>
              <a:rPr b="0" lang="en-NZ" sz="3600" spc="-1" strike="noStrike">
                <a:solidFill>
                  <a:srgbClr val="ffff00"/>
                </a:solidFill>
                <a:latin typeface="Calibri"/>
              </a:rPr>
              <a:t>magnetic field 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around it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ff"/>
                </a:solidFill>
                <a:uFillTx/>
                <a:latin typeface="Calibri"/>
              </a:rPr>
              <a:t>Fact Three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A changing magnetic field can cause charged particles to move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" name="Picture 4" descr="emanim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428760" y="500040"/>
            <a:ext cx="828648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 u="sng">
                <a:solidFill>
                  <a:srgbClr val="ffffff"/>
                </a:solidFill>
                <a:uFillTx/>
                <a:latin typeface="Calibri"/>
              </a:rPr>
              <a:t>Electromagnetic Waves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alibri"/>
              </a:rPr>
              <a:t>Electromagnetic waves are made up of oscillating electric and magnetic fields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Calibri"/>
              </a:rPr>
              <a:t>All electromagnetic waves travel at the speed of light</a:t>
            </a:r>
            <a:r>
              <a:rPr b="0" lang="en-NZ" sz="4000" spc="-1" strike="noStrike">
                <a:solidFill>
                  <a:srgbClr val="ffffff"/>
                </a:solidFill>
                <a:latin typeface="Calibri"/>
              </a:rPr>
              <a:t>, c, in a vacuum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500" spc="-1" strike="noStrike">
                <a:solidFill>
                  <a:srgbClr val="ffffff"/>
                </a:solidFill>
                <a:latin typeface="Calibri"/>
              </a:rPr>
              <a:t>c = speed of light =  3.0 x 10</a:t>
            </a:r>
            <a:r>
              <a:rPr b="0" lang="en-NZ" sz="4500" spc="-1" strike="noStrike" baseline="30000">
                <a:solidFill>
                  <a:srgbClr val="ffffff"/>
                </a:solidFill>
                <a:latin typeface="Calibri"/>
              </a:rPr>
              <a:t>8</a:t>
            </a:r>
            <a:r>
              <a:rPr b="0" lang="en-NZ" sz="4500" spc="-1" strike="noStrike">
                <a:solidFill>
                  <a:srgbClr val="ffffff"/>
                </a:solidFill>
                <a:latin typeface="Calibri"/>
              </a:rPr>
              <a:t> ms</a:t>
            </a:r>
            <a:r>
              <a:rPr b="0" lang="en-NZ" sz="4500" spc="-1" strike="noStrike" baseline="30000">
                <a:solidFill>
                  <a:srgbClr val="ffffff"/>
                </a:solidFill>
                <a:latin typeface="Calibri"/>
              </a:rPr>
              <a:t>-1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alibri"/>
              </a:rPr>
              <a:t>Electromagnetic waves do not require medium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lectromagnetic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radio transmitter station"/>
          <p:cNvPicPr/>
          <p:nvPr/>
        </p:nvPicPr>
        <p:blipFill>
          <a:blip r:embed="rId1"/>
          <a:stretch/>
        </p:blipFill>
        <p:spPr>
          <a:xfrm>
            <a:off x="23875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80880" y="0"/>
            <a:ext cx="830592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05:56:48Z</dcterms:created>
  <dc:creator>Dave</dc:creator>
  <dc:description/>
  <dc:language>en-US</dc:language>
  <cp:lastModifiedBy>Ministry of Education</cp:lastModifiedBy>
  <dcterms:modified xsi:type="dcterms:W3CDTF">2012-03-12T21:53:40Z</dcterms:modified>
  <cp:revision>53</cp:revision>
  <dc:subject/>
  <dc:title>Waves</dc:title>
</cp:coreProperties>
</file>